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3BE2-813D-40FF-8E3C-B736E8C51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ebellum means “little brain” – non-verbal learning/ coordinates voluntary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1F8B-44FA-47EE-899C-758B7AB92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border = li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pocampus –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ygdala – aggre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alumus – hunger, thirst, sex drive, body temp, pleasure cent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0907-9CF3-4B2B-A740-64CAFC518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alumus – pleasure cen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718E-753C-4F9F-8AD0-FAE199BC3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cular formation “netlike” stimulated awake; severed c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mus gets all the info from senses cept sm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881B-2D38-4A2B-BB1D-E2A545FD1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054-B4D9-4507-A9B1-B3269A14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716-4B9C-457E-B84B-CC45280A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3FD-DDFA-47F8-A806-EB7A0A9D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815-9F5D-4825-AE7D-EB325D64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14D-AE97-48CA-82E8-F47CBAB1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AD7-A7FF-4DDF-912A-65E1A6A5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A88-BCAA-418E-81B6-3872143E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EE1-0730-4175-BAAF-19B03938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BF1-4DF5-4523-AC71-D33C9B21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323-67A4-40D5-B6E1-F35E0C1F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CF4-75FA-4DE8-A76D-21E8608A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F84-4916-4F7D-BA82-3D871210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908E-7FE3-452E-8851-EEEFD44BC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culty.washington.edu/chudler/flash/hom.html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139760" y="712800"/>
            <a:ext cx="6858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393920" y="712800"/>
            <a:ext cx="6350040" cy="5435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mbic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698480" y="712800"/>
            <a:ext cx="5740560" cy="543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jor Endocrine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55480" y="1347840"/>
            <a:ext cx="8026560" cy="4165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 with an Implanted Electr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erebral Cort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of the Co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of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faculty.washington.edu/chudler/flash/hom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in Re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521000" y="712800"/>
            <a:ext cx="6095880" cy="5435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divisions of the Cort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555480" y="1220760"/>
            <a:ext cx="802656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or and Sensory Cort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1647720" y="712800"/>
            <a:ext cx="58420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555480" y="1906560"/>
            <a:ext cx="8026560" cy="3048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s of the Cortex in Four 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555480" y="712800"/>
            <a:ext cx="8026560" cy="5435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ation and Integration i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ou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munication system for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in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nervous system (CNS) the brain and the spinal cord.  1,400 grams weighs the human adult b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pheral nervous system (P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ontent Placeholder 6" descr="human_nervous_system.jpg"/>
          <p:cNvPicPr/>
          <p:nvPr/>
        </p:nvPicPr>
        <p:blipFill>
          <a:blip r:embed="rId2"/>
          <a:stretch/>
        </p:blipFill>
        <p:spPr>
          <a:xfrm>
            <a:off x="6137280" y="1523880"/>
            <a:ext cx="2224080" cy="4943520"/>
          </a:xfrm>
          <a:prstGeom prst="rect">
            <a:avLst/>
          </a:prstGeom>
          <a:ln w="0">
            <a:noFill/>
          </a:ln>
        </p:spPr>
      </p:pic>
      <p:sp>
        <p:nvSpPr>
          <p:cNvPr id="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581040" y="1601640"/>
            <a:ext cx="7975440" cy="3657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in Activity when Hearing, Seeing, and Speaking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ivided Br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ting the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ing Hemispheric Differences in the Intact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versus Le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 Bra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s at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 B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s at w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139760" y="789120"/>
            <a:ext cx="685800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3200400" y="0"/>
            <a:ext cx="2705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555480" y="1297080"/>
            <a:ext cx="8026560" cy="42670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he Divided B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pheral nervous system (P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ontent Placeholder 6" descr="pns_sns_sf.jpg"/>
          <p:cNvPicPr/>
          <p:nvPr/>
        </p:nvPicPr>
        <p:blipFill>
          <a:blip r:embed="rId2"/>
          <a:stretch/>
        </p:blipFill>
        <p:spPr>
          <a:xfrm>
            <a:off x="1447920" y="1546200"/>
            <a:ext cx="6476760" cy="516744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416176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pheral nervous system (PNS)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voluntary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nomic: involu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athetic – for emer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sympathetic – to calm the body; homeost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he Mind…but never “never mind the mind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est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4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our weight is b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phants: 1/6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mosets: 1/25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727600" y="2209680"/>
            <a:ext cx="34164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know of the brain’s functions and par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al observation – damaged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te the brain – electrically, chemically, or magnetically stimulate or se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G – electroenceph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 scan – computed tom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 scan – positron emission tom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I – magnetic resonance im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- Level Brain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rain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rebel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mbic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ygd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55480" y="888840"/>
            <a:ext cx="8026560" cy="5435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stem and Thalam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1:20:00Z</dcterms:created>
  <dc:creator>bfw</dc:creator>
  <dc:description/>
  <dc:language>en-US</dc:language>
  <cp:lastModifiedBy>MacAdmin Kis</cp:lastModifiedBy>
  <dcterms:modified xsi:type="dcterms:W3CDTF">2009-02-04T04:51:15Z</dcterms:modified>
  <cp:revision>41</cp:revision>
  <dc:subject/>
  <dc:title>Module 4</dc:title>
</cp:coreProperties>
</file>